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7B7-5E4C-4822-AA2F-2DAE3434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67C-3454-47F8-9D57-F3415855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338-BE1C-4399-9D07-2ECAC55E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85C-A811-44AE-900B-8931B4C7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3DA-9023-42B0-ACA2-876D93C7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838B-26F4-450A-9527-4D73FFA2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BA22-9D51-40B3-B90E-36C619E3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8D68-4009-4F5C-85E5-117B60D7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0F2C-C045-4D60-A011-8EE31556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CF8D-12B4-4A5A-A426-3C533841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5E4A-A576-47DC-90A1-62415CB2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06E-0664-43D0-A6E3-939E706D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B815-2E9E-47C3-83EB-800FC96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BE70-D62C-404F-9F27-B8410C1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4974-8A53-460F-8A3B-E9F08920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2DD8-A4CB-4E43-A0E4-36006556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C256-52DE-43BE-9D04-8A177F31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79D-52FF-4B6A-8107-5416EB3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AA1-F162-4E43-B2FD-31AEA43F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8D3-8300-4444-954C-5784BFB5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C39-B82D-4959-874B-39A2BC87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C7B-207F-4FE6-943F-BA1D93C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2F0-ACE5-4EC5-93D6-D73DBC00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62F-2CE2-4466-8D11-7AC545C3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5B82C-F22B-4D60-902A-4B63D6E7BDA7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0EB3E-E75F-476C-80E8-37DD88528B3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AEB15-647A-406D-BBE4-A021289259A1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8EBC4-DD06-46FD-AD4F-5E65E0A4F1A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170000"/>
            <a:ext cx="8242200" cy="232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tical route by # 1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 has initial advantage on judgment---has had more reps with this type of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ve Yard Highwa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nd Lea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f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Run Parall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Hip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 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ad and Ey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nd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atural Dri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ounda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pfield Shoul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side Relea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m’s Lengt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igh Poi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rst Access to Foot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KEY QUESTION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716040" y="574560"/>
            <a:ext cx="73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agram #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965240" y="595944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2127240" y="44514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14"/>
          <p:cNvSpPr/>
          <p:nvPr/>
        </p:nvSpPr>
        <p:spPr>
          <a:xfrm flipV="1">
            <a:off x="1963800" y="3822840"/>
            <a:ext cx="1440" cy="213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Straight Arrow Connector 16"/>
          <p:cNvCxnSpPr/>
          <p:nvPr/>
        </p:nvCxnSpPr>
        <p:spPr>
          <a:xfrm flipH="1" flipV="1">
            <a:off x="1031040" y="2115360"/>
            <a:ext cx="934200" cy="17074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6" name="TextBox 19"/>
          <p:cNvSpPr/>
          <p:nvPr/>
        </p:nvSpPr>
        <p:spPr>
          <a:xfrm>
            <a:off x="2627280" y="1606680"/>
            <a:ext cx="3614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Receiver attempts to create horizontal separation---fade to the ball.  QB can then lay the ball in.  We must cut off receiver.  Make the QB make a perfect throw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282600" y="2887560"/>
            <a:ext cx="10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R wants grass, real es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5438880" y="5961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Straight Arrow Connector 23"/>
          <p:cNvCxnSpPr/>
          <p:nvPr/>
        </p:nvCxnSpPr>
        <p:spPr>
          <a:xfrm flipH="1" flipV="1">
            <a:off x="672480" y="1237680"/>
            <a:ext cx="4786920" cy="472356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arrow" w="med"/>
          </a:ln>
        </p:spPr>
      </p:cxnSp>
      <p:sp>
        <p:nvSpPr>
          <p:cNvPr id="100" name="Straight Connector 25"/>
          <p:cNvSpPr/>
          <p:nvPr/>
        </p:nvSpPr>
        <p:spPr>
          <a:xfrm flipH="1">
            <a:off x="130320" y="576360"/>
            <a:ext cx="1440" cy="559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152280" y="5676840"/>
            <a:ext cx="9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d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228600" y="576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defi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hip to hip or half an arm’s length behind.  Match the hip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 of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rm’s length or more behin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un parallel with the wide receiver.  Do not run side by side with the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look and lean technique---zone turn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s natural drift on zone tur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e ball, feel wid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 natural drift to field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 of control---do not look back.  You will lose the receiver.  There is a natural drift to field (away from wr) that creates separation when you look back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indicators:  wide receiver head/hand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rip the ball, make the tackl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all being caught---go for strip with your closest arm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ften slight hesitation by receiver to adjust to the footb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n late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ok/Lean:  you must lean, work toward football, feel th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n’t panic.  The only thing that matters is if the ball is caught or not.  Win la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04:48Z</dcterms:created>
  <dc:creator>matt  fisher</dc:creator>
  <dc:description/>
  <dc:language>en-US</dc:language>
  <cp:lastModifiedBy>Ed Center RLASD</cp:lastModifiedBy>
  <dcterms:modified xsi:type="dcterms:W3CDTF">2010-04-28T15:38:50Z</dcterms:modified>
  <cp:revision>3</cp:revision>
  <dc:subject/>
  <dc:title>Defending the Fade </dc:title>
</cp:coreProperties>
</file>